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86D-43FC-4AE4-98F8-CA77E7CC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AD1-363D-4579-896F-E4C2DD6C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20A-853E-4248-8B61-58AB9F70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571-7C69-44E9-A32C-33B4D9C3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73A-DAA0-4481-9A32-761D8BD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C99-EC18-4FE7-8EA2-D81F6CF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D32-AC4D-4AF9-90E5-45C01CA5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4A5-1620-4A96-B50E-77AFD21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C3E-1D54-4810-8378-1FB73E94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804-EB0F-4B91-AD51-0AAD5BD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2BE-A40D-44B9-9525-306630B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BD8-6654-451D-A58F-3609987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01E-33B2-4BDF-AE93-8B4C350DF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32120" cy="300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53080" y="304920"/>
            <a:ext cx="2260800" cy="472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1692360" cy="19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2340720" y="2002320"/>
            <a:ext cx="4724280" cy="117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Rounded MT Bold"/>
              </a:rPr>
              <a:t>We Recycl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868680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C Declares This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ost Recycle Friendly Classroom!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31:40Z</dcterms:created>
  <dc:creator>mes5c</dc:creator>
  <dc:description/>
  <dc:language>en-US</dc:language>
  <cp:lastModifiedBy>mes5c</cp:lastModifiedBy>
  <dcterms:modified xsi:type="dcterms:W3CDTF">2011-02-03T13:08:10Z</dcterms:modified>
  <cp:revision>4</cp:revision>
  <dc:subject/>
  <dc:title>Slide 1</dc:title>
</cp:coreProperties>
</file>